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F7BE-F577-4BDB-9861-9F05241A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7703-72E1-4731-A3C9-B044F832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D74B-E70C-4D60-96EB-9172C38E4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FF2B-A1F0-4FC3-9524-75491E14A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6234-1C1B-4D1C-A31D-19FFF811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D597-8C04-4DE4-B384-FCC25F8E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6A37-4DCD-4EF4-B7DB-955EA79D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CA99-7F22-4311-99EF-7829E2B6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9B65-9C14-4F2E-B14A-FDAFE55A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BE85-8F09-40C1-8FAF-8CE79FCC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5B9F-224C-408B-938E-A7731C24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AF38-398B-4811-A0C3-F7AC27BF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DE6E-A2A8-4E68-A814-B9EEE540E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dering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ow the Waterline”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560" y="182880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95680" y="144792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 an aspect of culture from “below the waterlin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your culture regards this aspect of cul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2 examples to support your descri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ain why you think your culture regards this aspect in the way that it does --what do you think this says about your cul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ow the Waterline”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560" y="182880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95680" y="144792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 an aspect of culture from “below the waterlin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your culture regards this aspect of cul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2 examples to support your descri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ain why you think your culture regards this aspect in the way that it does --what do you think this says about your cul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your researched culture to your own lif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uch (or how little) are you affected by your researched cult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other cultures have an impact on you? In what way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800240" y="182880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90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pace below to document your sources of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1640" y="15238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pace below to document your sources of im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4 Components of Culture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3 “Below the Waterline”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Analysis and Works Cited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15 words per sl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2 image(s) per slide. Use “border” fea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mages explained (either with captions or in the presentation itself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t formatting of background, color scheme, font selections (hierarchy &amp; maximum of 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 Notes (if used) all in own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limit: 5-7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ivery: Confident and well-rehear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ce: Slow, loud, clear. You need to be heard throughout the 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ure: Face the audience and use only purposeful movements and ges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 Notes: Optional, but used for support only. Don’t just read from the slide and/or your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: The goal is effective communication, not just getting it don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Use thi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lide contains a description of required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se descriptions to guide your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he PowerPoint with your own researched facts, opinions (where indicated), images, captions, colors schemes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 all instructions as you 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additional requirements in final two slides of this PowerPoi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1: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572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features of your country’s geography have affected the cul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lute Location, Relative Location, Climate, Weather, Terra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Statistics (Density, Composition, Distribution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 what way(s) does the geography of your country influence its cul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0516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2: Science, Technology, and Inno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5410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spects of Science, Technology, and Innovation affect the culture of your count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ions, infrastructure, degree of modernization, tools and ways of doing things to make life easi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 what way(s) does the Science, Technology, and Innovation of your country influence its cul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3: Beliefs, Values, and Cus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572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ypes of Beliefs, Values, and Customs affect the culture of your count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gions, life cycle events or ceremonies, annual ceremonies, status - These can become guides or patterns for how to li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 what way(s) do the Beliefs, Values, and Customs of your country influence its cul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0516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4: Social Organ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572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ypes of Social Organizations affect the culture of your count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y, government, community organizations, peer groups, education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 what way(s) does the Social Organizations of your country influence its cul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10516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5: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5105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forms of Communication affect the culture of your count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ys of expressing ideas and emotions – language, nonverbal communication, art, mass media, communications techn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 what way(s) does Communication in your country influence its cul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0516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6: Famo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ople and Pl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572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famous people and/or places affect the culture of your count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t and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m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al Ic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tical and Social L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 what way(s) do Famous People and Places in your country influence its cul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10516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ow the Waterline”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560" y="182880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95680" y="144792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 an aspect of culture from “below the waterlin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your culture regards this aspect of cul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2 examples to support your descri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ain why you think your culture regards this aspect in the way that it does --what do you think this says about your cul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48:23Z</dcterms:created>
  <dc:creator>Robert Gold</dc:creator>
  <dc:description/>
  <dc:language>en-US</dc:language>
  <cp:lastModifiedBy>ICT Office</cp:lastModifiedBy>
  <dcterms:modified xsi:type="dcterms:W3CDTF">2007-09-17T23:51:07Z</dcterms:modified>
  <cp:revision>4</cp:revision>
  <dc:subject/>
  <dc:title>Considering Culture</dc:title>
</cp:coreProperties>
</file>